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1B51-8733-4C46-91D8-471BA7AE7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C84E-BE58-475C-A0E9-A595C1151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6A65-04D7-4715-8F31-66339B5E44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F429-DDAA-427B-83B6-C7FAA5F0A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050F-4555-4765-BF0A-9061EA794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BFF-3399-4432-8785-2814D139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D9C-3EA4-4986-8880-88016669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0BF-DA06-443D-8DD9-6C3FC635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0B7-AB9B-4E24-92B1-9184943C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DB4-612A-433C-8C15-03587EC3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35E-4FAC-47BA-A43B-5C2C4B75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8A8-DD20-48DE-B0EF-02CE9FC0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773-6217-4137-9493-E0F7F82E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A17-4B10-463A-BACF-95032242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C12-6E1C-4422-91B3-7DA3B911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5FB-0878-457B-A755-42E75BC0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9D5-4FAE-49FB-B47D-E9DF059E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7939-962C-4854-B834-84C031346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" TargetMode="External"/><Relationship Id="rId2" Type="http://schemas.openxmlformats.org/officeDocument/2006/relationships/hyperlink" Target="http://www.uchportal.ru/" TargetMode="External"/><Relationship Id="rId3" Type="http://schemas.openxmlformats.org/officeDocument/2006/relationships/hyperlink" Target="http://nsportal.ru/sites/default/files/2013/1/razrabotka_uroka_po_himii_dlya_8_klassa_po_teme.docx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классы мы уже изуч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ещества называются оксид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оксид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ещества называется основания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основа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сиды, каких металлов являются щелоч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изменяется цвет индикаторов в щелочной сред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индикато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дреса интернет - ресур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uchportal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nsportal.ru/sites/default/files/2013/1/razrabotka_uroka_po_himii_dlya_8_klassa_po_teme.doc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acid1-02"/>
          <p:cNvPicPr/>
          <p:nvPr/>
        </p:nvPicPr>
        <p:blipFill>
          <a:blip r:embed="rId4"/>
          <a:stretch/>
        </p:blipFill>
        <p:spPr>
          <a:xfrm>
            <a:off x="4788000" y="1484280"/>
            <a:ext cx="374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учения физических свойств обратимся к тексту учебника. Прочтите текст на с. 105 и назовите основные физические свойства серной кислоты. Сделайте запись в тетр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s://www.syl.ru/misc/i/ai/148985/463470.jpg"/>
          <p:cNvPicPr/>
          <p:nvPr/>
        </p:nvPicPr>
        <p:blipFill>
          <a:blip r:embed="rId1"/>
          <a:stretch/>
        </p:blipFill>
        <p:spPr>
          <a:xfrm>
            <a:off x="3500280" y="4143240"/>
            <a:ext cx="50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ём, друзья, сейча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для гл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, влево посмотрел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все повесел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зу вверх и сверху вни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, хрусталик, не сердис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 потолок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ыщи там угол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мышцы крепче стал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м мы по диагоналя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будем циркуль бр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зглядом круг пис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51280" y="2276280"/>
            <a:ext cx="3035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http://www.clipartbest.com/cliparts/yTk/aRz/yTkaRzojc.png"/>
          <p:cNvPicPr/>
          <p:nvPr/>
        </p:nvPicPr>
        <p:blipFill>
          <a:blip r:embed="rId1"/>
          <a:stretch/>
        </p:blipFill>
        <p:spPr>
          <a:xfrm>
            <a:off x="514836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ктическая работ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«Изменение цвета индикатора в кислой сред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м даны пробирки с кислота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помощью пипетки  по каплям добавьте в каждую пробирку с кислотой по одному индикатор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делайте краткую запись результат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кмус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илоранж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нолфталеин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внобедренный треугольник 4"/>
          <p:cNvSpPr/>
          <p:nvPr/>
        </p:nvSpPr>
        <p:spPr>
          <a:xfrm>
            <a:off x="2286000" y="4714920"/>
            <a:ext cx="642960" cy="571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5"/>
          <p:cNvSpPr/>
          <p:nvPr/>
        </p:nvSpPr>
        <p:spPr>
          <a:xfrm>
            <a:off x="3214800" y="5286240"/>
            <a:ext cx="642960" cy="5716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6"/>
          <p:cNvSpPr/>
          <p:nvPr/>
        </p:nvSpPr>
        <p:spPr>
          <a:xfrm>
            <a:off x="3571920" y="6000840"/>
            <a:ext cx="642960" cy="5713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ла р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5" descr="http://site-290560.mozfiles.com/files/290560/img16.jpg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оличественное значение рН раствор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1357200"/>
          <a:ext cx="8286840" cy="342900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76228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Числовое значение р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Характер среды раств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твор 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створ №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твор №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26" descr="https://telegraf.com.ua/files/2015/07/1057.jpg"/>
          <p:cNvPicPr/>
          <p:nvPr/>
        </p:nvPicPr>
        <p:blipFill>
          <a:blip r:embed="rId1"/>
          <a:stretch/>
        </p:blipFill>
        <p:spPr>
          <a:xfrm>
            <a:off x="6786720" y="5214960"/>
            <a:ext cx="1846080" cy="12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http://zhaba.ru/storage-10667/images-7693/6f7f2c37ce11c6e323c7b2121a813bbd_27693.gif"/>
          <p:cNvPicPr/>
          <p:nvPr/>
        </p:nvPicPr>
        <p:blipFill>
          <a:blip r:embed="rId2"/>
          <a:stretch/>
        </p:blipFill>
        <p:spPr>
          <a:xfrm>
            <a:off x="714240" y="5072040"/>
            <a:ext cx="1500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Тест по теме «Кисло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8" name="Picture 5" descr="http://i.ucrazy.ru/files/i/2010.3.17/1268836784_x_3f222357.jpg"/>
          <p:cNvPicPr/>
          <p:nvPr/>
        </p:nvPicPr>
        <p:blipFill>
          <a:blip r:embed="rId1"/>
          <a:stretch/>
        </p:blipFill>
        <p:spPr>
          <a:xfrm>
            <a:off x="6858000" y="3286080"/>
            <a:ext cx="1835280" cy="2776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иллюстрация профессора химии работает в лаборатории Фото со стока - 32519342"/>
          <p:cNvPicPr/>
          <p:nvPr/>
        </p:nvPicPr>
        <p:blipFill>
          <a:blip r:embed="rId2"/>
          <a:stretch/>
        </p:blipFill>
        <p:spPr>
          <a:xfrm>
            <a:off x="928800" y="500040"/>
            <a:ext cx="2914560" cy="194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иллюстрация профессора химии работает в лаборатории Фото со стока - 32519342"/>
          <p:cNvPicPr/>
          <p:nvPr/>
        </p:nvPicPr>
        <p:blipFill>
          <a:blip r:embed="rId3"/>
          <a:stretch/>
        </p:blipFill>
        <p:spPr>
          <a:xfrm>
            <a:off x="928800" y="500040"/>
            <a:ext cx="2914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. Выберите группу веществ, в которой указаны только формулы кислот</a:t>
            </a:r>
            <a:r>
              <a:rPr b="0" lang="ru-RU" sz="39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42920" y="2060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А)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C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187280" y="306864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Б)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87280" y="422100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https://odnagazeta.com/images/adv2/511626/360470.jpg"/>
          <p:cNvPicPr/>
          <p:nvPr/>
        </p:nvPicPr>
        <p:blipFill>
          <a:blip r:embed="rId1"/>
          <a:srcRect l="7553" t="20150" r="5569" b="0"/>
          <a:stretch/>
        </p:blipFill>
        <p:spPr>
          <a:xfrm>
            <a:off x="6143760" y="4929120"/>
            <a:ext cx="256068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20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 Выберите группу, в которой указаны формулы только кислородсодержащих кислот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0920" y="2421000"/>
            <a:ext cx="612936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А)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4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050920" y="3429000"/>
            <a:ext cx="5977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Б)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484360" y="4365720"/>
            <a:ext cx="6131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https://www.metod-kopilka.ru/images/doc/13/6866/img27.jpg"/>
          <p:cNvPicPr/>
          <p:nvPr/>
        </p:nvPicPr>
        <p:blipFill>
          <a:blip r:embed="rId1"/>
          <a:srcRect l="5771" t="17957" r="30737" b="5094"/>
          <a:stretch/>
        </p:blipFill>
        <p:spPr>
          <a:xfrm>
            <a:off x="214200" y="4714920"/>
            <a:ext cx="23576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ыберите группу, в которой указаны формулы только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одноосновных кисл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http://shishebarova.ucoz.ru/color.gif"/>
          <p:cNvPicPr/>
          <p:nvPr/>
        </p:nvPicPr>
        <p:blipFill>
          <a:blip r:embed="rId1"/>
          <a:stretch/>
        </p:blipFill>
        <p:spPr>
          <a:xfrm>
            <a:off x="6286680" y="2428920"/>
            <a:ext cx="22842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Путешествие в страну Кисло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\Рабочий стол\File0785.TIF"/>
          <p:cNvPicPr/>
          <p:nvPr/>
        </p:nvPicPr>
        <p:blipFill>
          <a:blip r:embed="rId1"/>
          <a:srcRect l="3200" t="19207" r="27689" b="15311"/>
          <a:stretch/>
        </p:blipFill>
        <p:spPr>
          <a:xfrm>
            <a:off x="3059280" y="3645000"/>
            <a:ext cx="331308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555"/>
          <p:cNvPicPr/>
          <p:nvPr/>
        </p:nvPicPr>
        <p:blipFill>
          <a:blip r:embed="rId2"/>
          <a:stretch/>
        </p:blipFill>
        <p:spPr>
          <a:xfrm>
            <a:off x="6372360" y="260280"/>
            <a:ext cx="225576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Наталья\Мои документы\Мои рисунки\img318.jpg"/>
          <p:cNvPicPr/>
          <p:nvPr/>
        </p:nvPicPr>
        <p:blipFill>
          <a:blip r:embed="rId3"/>
          <a:srcRect l="2438" t="3589" r="9266" b="0"/>
          <a:stretch/>
        </p:blipFill>
        <p:spPr>
          <a:xfrm>
            <a:off x="611280" y="26028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9171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4. Под действием растворов кислот лакмус синий становится: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4887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рас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2781360"/>
            <a:ext cx="488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изменяет окра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50920" y="3500280"/>
            <a:ext cx="4887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635280" y="4437000"/>
            <a:ext cx="4888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)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иоле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kartinki-vernisazh.ru/_ph/234/2/341126398.jpg"/>
          <p:cNvPicPr/>
          <p:nvPr/>
        </p:nvPicPr>
        <p:blipFill>
          <a:blip r:embed="rId1"/>
          <a:stretch/>
        </p:blipFill>
        <p:spPr>
          <a:xfrm>
            <a:off x="428760" y="2786040"/>
            <a:ext cx="257004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5. При разбавлении кислоты: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24000" y="1844640"/>
            <a:ext cx="604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ду приливают к кисл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627280" y="2781360"/>
            <a:ext cx="597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Кислоту приливают к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50920" y="371628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)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ду и кислоту смешивают одновре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86sch3-nyagan.edusite.ru/images/25_1.gif"/>
          <p:cNvPicPr/>
          <p:nvPr/>
        </p:nvPicPr>
        <p:blipFill>
          <a:blip r:embed="rId1"/>
          <a:stretch/>
        </p:blipFill>
        <p:spPr>
          <a:xfrm>
            <a:off x="6715080" y="4071960"/>
            <a:ext cx="214308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ы к тесту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Б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цените себ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«3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3  правильных ответ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4»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4 правильных ответов 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«5»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5 правильных отве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 фраз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-  эт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личию атомов кислорода кислоты делятся  на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атомов водорода кислоты делятся на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е значение рН изменяется от…….и до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https://myslide.ru/documents_2/106b39a2d8cfa407db9cc3ede480be6c/img16.jpg"/>
          <p:cNvPicPr/>
          <p:nvPr/>
        </p:nvPicPr>
        <p:blipFill>
          <a:blip r:embed="rId1"/>
          <a:srcRect l="28266" t="18066" r="26192" b="31836"/>
          <a:stretch/>
        </p:blipFill>
        <p:spPr>
          <a:xfrm>
            <a:off x="6215040" y="4500720"/>
            <a:ext cx="23115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29600" cy="2103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чу у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н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53" name="Picture 22" descr="https://mrsvacosta.files.wordpress.com/2011/06/mad_science_flask_girl_yq8e.jpg"/>
          <p:cNvPicPr/>
          <p:nvPr/>
        </p:nvPicPr>
        <p:blipFill>
          <a:blip r:embed="rId1"/>
          <a:stretch/>
        </p:blipFill>
        <p:spPr>
          <a:xfrm>
            <a:off x="428760" y="4071960"/>
            <a:ext cx="1928520" cy="2270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2"/>
          <a:srcRect l="16781" t="11546" r="21707" b="0"/>
          <a:stretch/>
        </p:blipFill>
        <p:spPr>
          <a:xfrm>
            <a:off x="6572160" y="3857760"/>
            <a:ext cx="2071800" cy="2643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3"/>
          <a:srcRect l="16781" t="11546" r="21707" b="0"/>
          <a:stretch/>
        </p:blipFill>
        <p:spPr>
          <a:xfrm>
            <a:off x="6572160" y="3857760"/>
            <a:ext cx="2071800" cy="26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4"/>
          <a:srcRect l="16781" t="11546" r="21707" b="0"/>
          <a:stretch/>
        </p:blipFill>
        <p:spPr>
          <a:xfrm>
            <a:off x="6724800" y="4010040"/>
            <a:ext cx="207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686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араграф 20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формулы кисл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полнить упр.1 стр.1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ое зада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ьте интересные сообщения, либо презентации о кислот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http://www.birmaga.ru/dosta/%D0%92%D0%B5%D1%89%D0%B5%D1%81%D1%82%D0%B2%D0%BE+%D0%B8+%D0%B5%D0%B3%D0%BE+%D1%81%D1%82%D1%80%D0%BE%D0%B5%D0%BD%D0%B8%D0%B5a/344763_html_2424a2a3.jpg"/>
          <p:cNvPicPr/>
          <p:nvPr/>
        </p:nvPicPr>
        <p:blipFill>
          <a:blip r:embed="rId1"/>
          <a:srcRect l="-4264" t="0" r="-17461" b="6945"/>
          <a:stretch/>
        </p:blipFill>
        <p:spPr>
          <a:xfrm>
            <a:off x="5357880" y="1500120"/>
            <a:ext cx="3500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0000" y="357480"/>
            <a:ext cx="7704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ЛАГОДАРЮ ЗА УРОК !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УСПЕХОВ ВА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L01p2p11"/>
          <p:cNvPicPr/>
          <p:nvPr/>
        </p:nvPicPr>
        <p:blipFill>
          <a:blip r:embed="rId1"/>
          <a:stretch/>
        </p:blipFill>
        <p:spPr>
          <a:xfrm>
            <a:off x="1214280" y="1428840"/>
            <a:ext cx="740124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052640"/>
          <a:ext cx="8229600" cy="338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чу у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Цель уро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остав, номенклатуру, классификацию и физические свойства кисло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s://st03.kakprosto.ru/tumb/680/images/article/2012/4/22/1_5254ff302b7ec5254ff302b82a.jpg"/>
          <p:cNvPicPr/>
          <p:nvPr/>
        </p:nvPicPr>
        <p:blipFill>
          <a:blip r:embed="rId1"/>
          <a:stretch/>
        </p:blipFill>
        <p:spPr>
          <a:xfrm>
            <a:off x="4648320" y="3643200"/>
            <a:ext cx="37861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оменклатура 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052640"/>
            <a:ext cx="42447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угольна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4</a:t>
            </a:r>
            <a:r>
              <a:rPr b="1" lang="ru-RU" sz="2800" spc="-1" strike="noStrike" baseline="-25000">
                <a:solidFill>
                  <a:srgbClr val="0066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O</a:t>
            </a:r>
            <a:r>
              <a:rPr b="1" lang="ru-RU" sz="2800" spc="-1" strike="noStrike" baseline="-25000">
                <a:solidFill>
                  <a:srgbClr val="006600"/>
                </a:solidFill>
                <a:latin typeface="Calibri"/>
              </a:rPr>
              <a:t>3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нист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азот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NO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зотист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P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тофосфо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lO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хло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H</a:t>
            </a: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 SiO</a:t>
            </a: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емниев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125000"/>
            <a:ext cx="4387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l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хлороводородная (соля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F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тороводородная (плавиков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Br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ромоводород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I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-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йодоводород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ероводород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иниль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ислоты -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ложные вещества, состоящие из атомов 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Calibri"/>
              </a:rPr>
              <a:t>водор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ислотного оста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428840" y="3643200"/>
            <a:ext cx="5545080" cy="208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4787640" y="2708280"/>
            <a:ext cx="136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556000" y="2708280"/>
            <a:ext cx="93636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2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SO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PO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reaktiv-bel.ru/upload/iblock/b8d/b8daecbbed82f9597dae556ee320c1fa.jpg"/>
          <p:cNvPicPr/>
          <p:nvPr/>
        </p:nvPicPr>
        <p:blipFill>
          <a:blip r:embed="rId1"/>
          <a:srcRect l="38241" t="3675" r="8819" b="4413"/>
          <a:stretch/>
        </p:blipFill>
        <p:spPr>
          <a:xfrm>
            <a:off x="357120" y="3786120"/>
            <a:ext cx="128592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surgut7.ru/board_foto/1449726580foto1_big.jpg"/>
          <p:cNvPicPr/>
          <p:nvPr/>
        </p:nvPicPr>
        <p:blipFill>
          <a:blip r:embed="rId2"/>
          <a:srcRect l="23444" t="0" r="22664" b="9685"/>
          <a:stretch/>
        </p:blipFill>
        <p:spPr>
          <a:xfrm>
            <a:off x="6858000" y="457200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primorye24.ru/uploads/media/news/0001/04/thumb_3263_news_xl_crop.jpeg"/>
          <p:cNvPicPr/>
          <p:nvPr/>
        </p:nvPicPr>
        <p:blipFill>
          <a:blip r:embed="rId3"/>
          <a:stretch/>
        </p:blipFill>
        <p:spPr>
          <a:xfrm>
            <a:off x="2071800" y="2357280"/>
            <a:ext cx="2438280" cy="170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surgut7.ru/board_foto/1449726580foto1_big.jpg"/>
          <p:cNvPicPr/>
          <p:nvPr/>
        </p:nvPicPr>
        <p:blipFill>
          <a:blip r:embed="rId4"/>
          <a:srcRect l="23444" t="0" r="22664" b="9685"/>
          <a:stretch/>
        </p:blipFill>
        <p:spPr>
          <a:xfrm>
            <a:off x="6858000" y="457200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Овал 2"/>
          <p:cNvSpPr/>
          <p:nvPr/>
        </p:nvSpPr>
        <p:spPr>
          <a:xfrm>
            <a:off x="2822400" y="901800"/>
            <a:ext cx="4146840" cy="9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Кисл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684360" y="2585880"/>
            <a:ext cx="3822480" cy="8305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о наличию атомов кисл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4896000" y="2457360"/>
            <a:ext cx="3887640" cy="841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о количеству атомов водо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5"/>
          <p:cNvSpPr/>
          <p:nvPr/>
        </p:nvSpPr>
        <p:spPr>
          <a:xfrm>
            <a:off x="214200" y="4429080"/>
            <a:ext cx="2857680" cy="830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Кислород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N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6"/>
          <p:cNvSpPr/>
          <p:nvPr/>
        </p:nvSpPr>
        <p:spPr>
          <a:xfrm>
            <a:off x="1857240" y="5438880"/>
            <a:ext cx="3557880" cy="776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Бескислород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7"/>
          <p:cNvSpPr/>
          <p:nvPr/>
        </p:nvSpPr>
        <p:spPr>
          <a:xfrm>
            <a:off x="2952720" y="4011480"/>
            <a:ext cx="3368880" cy="7779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Трех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 P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8"/>
          <p:cNvSpPr/>
          <p:nvPr/>
        </p:nvSpPr>
        <p:spPr>
          <a:xfrm>
            <a:off x="5349960" y="5567400"/>
            <a:ext cx="2916000" cy="861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Двух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 S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9"/>
          <p:cNvSpPr/>
          <p:nvPr/>
        </p:nvSpPr>
        <p:spPr>
          <a:xfrm>
            <a:off x="5803920" y="4336920"/>
            <a:ext cx="3044880" cy="1036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Одно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11"/>
          <p:cNvCxnSpPr>
            <a:stCxn id="72" idx="3"/>
          </p:cNvCxnSpPr>
          <p:nvPr/>
        </p:nvCxnSpPr>
        <p:spPr>
          <a:xfrm flipH="1">
            <a:off x="2174400" y="1730520"/>
            <a:ext cx="1256400" cy="98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15"/>
          <p:cNvCxnSpPr>
            <a:endCxn id="74" idx="0"/>
          </p:cNvCxnSpPr>
          <p:nvPr/>
        </p:nvCxnSpPr>
        <p:spPr>
          <a:xfrm>
            <a:off x="6190200" y="1744560"/>
            <a:ext cx="64980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/>
          <p:nvPr/>
        </p:nvCxnSpPr>
        <p:spPr>
          <a:xfrm flipH="1">
            <a:off x="1137600" y="3429000"/>
            <a:ext cx="90396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20"/>
          <p:cNvCxnSpPr>
            <a:endCxn id="76" idx="0"/>
          </p:cNvCxnSpPr>
          <p:nvPr/>
        </p:nvCxnSpPr>
        <p:spPr>
          <a:xfrm>
            <a:off x="3146400" y="3428640"/>
            <a:ext cx="489600" cy="201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24"/>
          <p:cNvCxnSpPr>
            <a:endCxn id="79" idx="0"/>
          </p:cNvCxnSpPr>
          <p:nvPr/>
        </p:nvCxnSpPr>
        <p:spPr>
          <a:xfrm flipH="1">
            <a:off x="7326000" y="3298680"/>
            <a:ext cx="3240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27"/>
          <p:cNvCxnSpPr/>
          <p:nvPr/>
        </p:nvCxnSpPr>
        <p:spPr>
          <a:xfrm>
            <a:off x="5673600" y="3234960"/>
            <a:ext cx="907200" cy="239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30"/>
          <p:cNvCxnSpPr>
            <a:stCxn id="74" idx="3"/>
          </p:cNvCxnSpPr>
          <p:nvPr/>
        </p:nvCxnSpPr>
        <p:spPr>
          <a:xfrm flipH="1">
            <a:off x="4441320" y="3174480"/>
            <a:ext cx="102312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7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7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тих кислот в свободном виде не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= S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↑ + 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=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↑ + 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релка вверх указывает, что это га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kartik.ru/wp-content/uploads/2017/07/den-himika-kartinki-149037.jpg"/>
          <p:cNvPicPr/>
          <p:nvPr/>
        </p:nvPicPr>
        <p:blipFill>
          <a:blip r:embed="rId1"/>
          <a:srcRect l="0" t="27370" r="2335" b="2509"/>
          <a:stretch/>
        </p:blipFill>
        <p:spPr>
          <a:xfrm>
            <a:off x="6878520" y="4714920"/>
            <a:ext cx="2122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7:09:04Z</dcterms:created>
  <dc:creator>user</dc:creator>
  <dc:description/>
  <dc:language>en-US</dc:language>
  <cp:lastModifiedBy>Наталья</cp:lastModifiedBy>
  <dcterms:modified xsi:type="dcterms:W3CDTF">2021-12-10T13:55:48Z</dcterms:modified>
  <cp:revision>123</cp:revision>
  <dc:subject/>
  <dc:title>Слайд 1</dc:title>
</cp:coreProperties>
</file>